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9.wmf" ContentType="image/x-wmf"/>
  <Override PartName="/ppt/media/image6.png" ContentType="image/png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7A8F4-73BE-4EFD-A92B-CC1FF318B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E8D2B-B88B-4FFB-BB10-068180956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25A08-D4A1-403E-92C9-F27D958DD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BF5F0-02BE-423A-AB8E-B8EDC79D4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E2840-37D6-4766-9B3F-830C84C63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4C61F-7D57-4745-85B0-0D2C9E2F9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0DFB0-9D42-4CFB-8DF6-DD67B0A48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57B18-DC26-465D-90CE-ED4879576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41532-8B59-4895-9A02-F9BFF60DC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2E9C4-BB10-4C88-9A51-743716574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533DD-AE40-466F-885B-9102A5621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72D71-E530-4A85-A23C-CDEDAF61F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7C674-C339-4F6A-962E-D713B4EB4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26F1F-41A3-47EF-B53D-3C0F1633D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5F54B-586C-48D8-91A7-41D95C033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87B1C-3052-49B7-891D-A60563130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E19F2-2F00-491C-A5BC-2D8289366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F6A8B-05B3-45F3-81A5-7B166A83A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9D01D-5094-480B-BFBC-D20773FF5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26A38-0A0C-4380-BF84-4AF4C6520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88F3E-4D33-454E-A737-730798988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A2C23-804F-48F6-99AC-72ED179E1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41FF8-4D4E-4564-8AD1-E10348B5B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36DE0-BFA4-4828-9417-E8FE01343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E85C7-6607-47AC-BCE8-53C5AB40ED6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1EF37-592E-456E-9A5C-AF2FFF165FA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pmolloy@mineola.k12.ny.us" TargetMode="External"/><Relationship Id="rId2" Type="http://schemas.openxmlformats.org/officeDocument/2006/relationships/hyperlink" Target="mailto:jmaichin@mineola.k12.ny.us" TargetMode="External"/><Relationship Id="rId3" Type="http://schemas.openxmlformats.org/officeDocument/2006/relationships/hyperlink" Target="mailto:wsmith@mineola.k12.ny.ys" TargetMode="External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cerebrum.wikispaces.com/" TargetMode="External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p12.nysed.gov/specialed/RTI/guidance/cover.htm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p12.nysed.gov/specialed/RTI/guidance/cover.htm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p12.nysed.gov/specialed/RTI/guidance/cover.htm" TargetMode="Externa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cerebrum.wikispaces.com/" TargetMode="Externa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28600" y="1142640"/>
            <a:ext cx="86868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Response to Intervention (RtI)</a:t>
            </a:r>
            <a:br>
              <a:rPr sz="4800"/>
            </a:b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&amp;</a:t>
            </a:r>
            <a:br>
              <a:rPr sz="4800"/>
            </a:b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The IST Process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2666880" y="4114440"/>
            <a:ext cx="60962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Jennifer Maichin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  Patricia Mollo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pecial Education Teacher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 Princip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ST Chairperson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 Meadow Drive Elementary Schoo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ineola Middle School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400" spc="-1" strike="noStrike" u="sng">
                <a:solidFill>
                  <a:srgbClr val="99ff99"/>
                </a:solidFill>
                <a:uFillTx/>
                <a:latin typeface="Arial"/>
                <a:hlinkClick r:id="rId1"/>
              </a:rPr>
              <a:t>pmolloy@mineola.k12.ny.us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99ff99"/>
                </a:solidFill>
                <a:uFillTx/>
                <a:latin typeface="Arial"/>
                <a:hlinkClick r:id="rId2"/>
              </a:rPr>
              <a:t>jmaichin@mineola.k12.ny.us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hittney Smith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ssistant Princip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SE Chairperson, Subcommitte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ineola Middle Schoo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99ff99"/>
                </a:solidFill>
                <a:uFillTx/>
                <a:latin typeface="Arial"/>
                <a:hlinkClick r:id="rId3"/>
              </a:rPr>
              <a:t>wsmith@mineola.k12.ny.ys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791320" y="5133960"/>
            <a:ext cx="2286000" cy="15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Focus on a student struggling in reading… “I need help!”: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The Role of the IST (problem solving team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dress the needs of the studen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rst look at the data (including influencing factor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termine specific deficit area(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velop options and decide on specific research based interven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t goals for progress and Increase self-awareness of the students (age appropriately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eate a cycle of follow-up meeting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nitor progress (student and team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reating a High Performing IS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ore Team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lnSpc>
                <a:spcPct val="90000"/>
              </a:lnSpc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ST Chairperson(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lnSpc>
                <a:spcPct val="90000"/>
              </a:lnSpc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uidance Counselor or Social Wo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lnSpc>
                <a:spcPct val="90000"/>
              </a:lnSpc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peech Therapi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lnSpc>
                <a:spcPct val="90000"/>
              </a:lnSpc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chool Psychologis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Dynamic Member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lnSpc>
                <a:spcPct val="90000"/>
              </a:lnSpc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lnSpc>
                <a:spcPct val="90000"/>
              </a:lnSpc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udent (when appropriat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lnSpc>
                <a:spcPct val="90000"/>
              </a:lnSpc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assroom Teacher / Special Education / Readi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lnSpc>
                <a:spcPct val="90000"/>
              </a:lnSpc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ading / Math Curriculum Associa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lnSpc>
                <a:spcPct val="90000"/>
              </a:lnSpc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urse (when appropriat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lnSpc>
                <a:spcPct val="90000"/>
              </a:lnSpc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ministration (when appropriat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Developing a Solid IST Proces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50" name="Diagram 5" descr=""/>
          <p:cNvPicPr/>
          <p:nvPr/>
        </p:nvPicPr>
        <p:blipFill>
          <a:blip r:embed="rId1"/>
          <a:stretch/>
        </p:blipFill>
        <p:spPr>
          <a:xfrm>
            <a:off x="838080" y="1143000"/>
            <a:ext cx="7162920" cy="487368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480" y="5994360"/>
            <a:ext cx="792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00"/>
                </a:solidFill>
                <a:latin typeface="Arial"/>
              </a:rPr>
              <a:t>See our protocols and forms o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ff99"/>
                </a:solidFill>
                <a:uFillTx/>
                <a:latin typeface="Arial"/>
                <a:hlinkClick r:id="rId2"/>
              </a:rPr>
              <a:t>www.cerebrum.wikispaces.co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Diagram 7" descr=""/>
          <p:cNvPicPr/>
          <p:nvPr/>
        </p:nvPicPr>
        <p:blipFill>
          <a:blip r:embed="rId1"/>
          <a:stretch/>
        </p:blipFill>
        <p:spPr>
          <a:xfrm>
            <a:off x="1600200" y="2362320"/>
            <a:ext cx="6108840" cy="4174920"/>
          </a:xfrm>
          <a:prstGeom prst="rect">
            <a:avLst/>
          </a:prstGeom>
          <a:ln w="0">
            <a:noFill/>
          </a:ln>
        </p:spPr>
      </p:pic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Benchmarking and 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Progress Monitoring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AD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Z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ading CB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COM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CA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6" name="" descr="Summer and Fall Training Workshops"/>
          <p:cNvPicPr/>
          <p:nvPr/>
        </p:nvPicPr>
        <p:blipFill>
          <a:blip r:embed="rId2"/>
          <a:srcRect l="25345" t="0" r="6196" b="60451"/>
          <a:stretch/>
        </p:blipFill>
        <p:spPr>
          <a:xfrm>
            <a:off x="6553080" y="6019920"/>
            <a:ext cx="2438640" cy="65376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3429000" y="4114800"/>
            <a:ext cx="685800" cy="3070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ae8"/>
                </a:solidFill>
                <a:latin typeface="Arial"/>
              </a:rPr>
              <a:t>Tier I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38160" y="57240"/>
            <a:ext cx="9258120" cy="67435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88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362320" y="2946240"/>
            <a:ext cx="44575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257480" y="4660920"/>
            <a:ext cx="67435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029040" y="5003640"/>
            <a:ext cx="2628720" cy="800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ier 1 - Univers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Quality classroom instruction using research-based strategies with targeted student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029040" y="3289320"/>
            <a:ext cx="262872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ier 2 - Strategi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mall Group (10-12 students) AIS Classes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Benchmarking three times / year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733920" y="1003320"/>
            <a:ext cx="167616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ier 3 - Intensiv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mall group (4-6 students) AIS classe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rogress Monitoring every 2-3 week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743040" y="5232240"/>
            <a:ext cx="2057400" cy="91440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t-Risk Student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eacher analyzes data, refers student to IST and moves student to Tier 2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rot="12217800">
            <a:off x="180720" y="397476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771560" y="3517920"/>
            <a:ext cx="1143000" cy="79992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hree data checks, regression/no progress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IST Proces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5886360" y="5232240"/>
            <a:ext cx="2057400" cy="91440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On Target Student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eacher analyzes data and keeps student in Tier 1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 rot="12775200">
            <a:off x="1018800" y="237456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772240" y="3517920"/>
            <a:ext cx="1143000" cy="68580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hree data check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IST Process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666880" y="2057400"/>
            <a:ext cx="1828800" cy="68580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Regression /no progress, revise (repeat if not successful) --- consider referral to CS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800600" y="2057400"/>
            <a:ext cx="1371600" cy="68580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rogres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tinue with progra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IST Proces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rot="13111800">
            <a:off x="2085840" y="77436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rot="19954800">
            <a:off x="7143840" y="260316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 rot="19942200">
            <a:off x="8172360" y="4089240"/>
            <a:ext cx="733680" cy="121464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85840" y="57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Essential Components of Succes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77" name="Diagram 7" descr=""/>
          <p:cNvPicPr/>
          <p:nvPr/>
        </p:nvPicPr>
        <p:blipFill>
          <a:blip r:embed="rId1"/>
          <a:stretch/>
        </p:blipFill>
        <p:spPr>
          <a:xfrm>
            <a:off x="533520" y="1219320"/>
            <a:ext cx="8089920" cy="565128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2"/>
          <a:stretch/>
        </p:blipFill>
        <p:spPr>
          <a:xfrm>
            <a:off x="3429000" y="2971800"/>
            <a:ext cx="2286000" cy="15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Implementation Step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mpower the Instructional Support Team (IS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tablish Interventions (Tiers I, II, I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cheduling Imp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plement and Monitor the Interventions (Fidelit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nitor the progress of stud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chedule Assessment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dminister CB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core and Enter Data in AIMsWe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et with AIS Teachers to discuss results and provide them with Passwords to AIMsWe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alk about the “Philosophy” of A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rriculum vs. Skil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 rot="1614600">
            <a:off x="7543440" y="609480"/>
            <a:ext cx="1244520" cy="120996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2"/>
          <a:stretch/>
        </p:blipFill>
        <p:spPr>
          <a:xfrm>
            <a:off x="6172200" y="5105520"/>
            <a:ext cx="1116000" cy="117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Continuously refine the program… 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1523880" y="1981080"/>
            <a:ext cx="6096240" cy="214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Work in Progress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1"/>
          <a:stretch/>
        </p:blipFill>
        <p:spPr>
          <a:xfrm>
            <a:off x="6629400" y="4114800"/>
            <a:ext cx="2116080" cy="25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NYS Structure &amp; Component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52280" y="1371240"/>
            <a:ext cx="8839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iers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(# of level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earch based core instructional program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(e.g. reading, math and writing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iversal screening and progress monitoring too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cision-making process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(problem solving vs. standard protocol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using a problem solving approach --- composition of the I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Professional Develop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Procedures to ensure fidelity of implem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Parent involvement and notification procedures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286000" y="6324480"/>
            <a:ext cx="65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ff99"/>
                </a:solidFill>
                <a:uFillTx/>
                <a:latin typeface="Arial"/>
                <a:hlinkClick r:id="rId1"/>
              </a:rPr>
              <a:t>http://www.p12.nysed.gov/specialed/RTI/guidance/cover.htm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Criteria and Decision Rules for Determining Levels of Intervention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ut point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o determine individuals at risk based on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Universal Screen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riteri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for judging whether a student is progressing adequately in response to instru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riteri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nd decision rules for movement of students between leve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riteri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for determining when an intervention is no longer need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286000" y="6324480"/>
            <a:ext cx="65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ff99"/>
                </a:solidFill>
                <a:uFillTx/>
                <a:latin typeface="Arial"/>
                <a:hlinkClick r:id="rId1"/>
              </a:rPr>
              <a:t>http://www.p12.nysed.gov/specialed/RTI/guidance/cover.htm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ypes of Interven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riteria for determining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durat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frequenc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of interventions designed to </a:t>
            </a: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supplemen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ier I or core instru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riteria for determining the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type of intervent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ncluding: focus of instruction, size of instructional group, appropriate instructional setting, and appropriately trained staf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Progress monitoring procedures and too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286000" y="6324480"/>
            <a:ext cx="65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ff99"/>
                </a:solidFill>
                <a:uFillTx/>
                <a:latin typeface="Arial"/>
                <a:hlinkClick r:id="rId1"/>
              </a:rPr>
              <a:t>http://www.p12.nysed.gov/specialed/RTI/guidance/cover.htm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hree Tier Model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4648320" y="2114640"/>
            <a:ext cx="4038480" cy="3497040"/>
            <a:chOff x="4648320" y="2114640"/>
            <a:chExt cx="4038480" cy="3497040"/>
          </a:xfrm>
        </p:grpSpPr>
        <p:sp>
          <p:nvSpPr>
            <p:cNvPr id="225" name="_s4112"/>
            <p:cNvSpPr/>
            <p:nvPr/>
          </p:nvSpPr>
          <p:spPr>
            <a:xfrm flipV="1">
              <a:off x="5994360" y="2114640"/>
              <a:ext cx="1346400" cy="1164960"/>
            </a:xfrm>
            <a:custGeom>
              <a:avLst/>
              <a:gdLst>
                <a:gd name="textAreaLeft" fmla="*/ 483120 w 1346400"/>
                <a:gd name="textAreaRight" fmla="*/ 863280 w 1346400"/>
                <a:gd name="textAreaTop" fmla="*/ 417960 h 1164960"/>
                <a:gd name="textAreaBottom" fmla="*/ 747000 h 1164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009999"/>
            </a:solidFill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ier III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_s4113"/>
            <p:cNvSpPr/>
            <p:nvPr/>
          </p:nvSpPr>
          <p:spPr>
            <a:xfrm flipV="1">
              <a:off x="5321520" y="3279600"/>
              <a:ext cx="2692080" cy="1167120"/>
            </a:xfrm>
            <a:custGeom>
              <a:avLst/>
              <a:gdLst>
                <a:gd name="textAreaLeft" fmla="*/ 591840 w 2692080"/>
                <a:gd name="textAreaRight" fmla="*/ 2100240 w 2692080"/>
                <a:gd name="textAreaTop" fmla="*/ 256680 h 1167120"/>
                <a:gd name="textAreaBottom" fmla="*/ 910440 h 116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009999"/>
            </a:solidFill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Tier II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_s4114"/>
            <p:cNvSpPr/>
            <p:nvPr/>
          </p:nvSpPr>
          <p:spPr>
            <a:xfrm flipV="1">
              <a:off x="4648320" y="4446720"/>
              <a:ext cx="4038480" cy="1164960"/>
            </a:xfrm>
            <a:custGeom>
              <a:avLst/>
              <a:gdLst>
                <a:gd name="textAreaLeft" fmla="*/ 700920 w 4038480"/>
                <a:gd name="textAreaRight" fmla="*/ 3337560 w 4038480"/>
                <a:gd name="textAreaTop" fmla="*/ 201960 h 1164960"/>
                <a:gd name="textAreaBottom" fmla="*/ 963000 h 1164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9999"/>
            </a:solidFill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"/>
                </a:rPr>
                <a:t>Tier I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1295280" y="4572000"/>
            <a:ext cx="3276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Quality Classroom Instruction based on NYS Curriculum and Standard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066680" y="3505320"/>
            <a:ext cx="4267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upplemental Instruction in addition to the standard classroom instru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62120" y="2362320"/>
            <a:ext cx="5105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xplicit, intensive instruction specifically designed to meet individual need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733920" y="5257800"/>
            <a:ext cx="9144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495680" y="3886200"/>
            <a:ext cx="9144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952880" y="2971800"/>
            <a:ext cx="9144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85800" y="601992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tI can also be used to address the social / emotional needs of our children (e.g. BIP; Group Counseling; Individual Counseling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33520" y="4343400"/>
            <a:ext cx="8381880" cy="1600200"/>
          </a:xfrm>
          <a:prstGeom prst="ellipse">
            <a:avLst/>
          </a:prstGeom>
          <a:noFill/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Tier I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: At-a-Glanc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457200" y="1600200"/>
          <a:ext cx="8229600" cy="4843440"/>
        </p:xfrm>
        <a:graphic>
          <a:graphicData uri="http://schemas.openxmlformats.org/drawingml/2006/table">
            <a:tbl>
              <a:tblPr/>
              <a:tblGrid>
                <a:gridCol w="1981080"/>
                <a:gridCol w="6248520"/>
              </a:tblGrid>
              <a:tr h="64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Focu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l students in class (should meet the needs of at least 80% of all learner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rogram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cientifically based curriculum reflecting state standar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Grouping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tiple and Flexible grouping formats to meet student needs (Differentiated Instruction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im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ily, uninterrupted 90 minute block of reading instruction focusing on phonemic awareness, phonics, vocabulary, fluency, and comprehension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ssessmen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niversal Screening / Benchmark Assessment (3x / year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Interventionis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eneral Education Classroom Teach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etting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eneral Education Classro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ier I Strategy Development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9" name="Diagram 5" descr=""/>
          <p:cNvPicPr/>
          <p:nvPr/>
        </p:nvPicPr>
        <p:blipFill>
          <a:blip r:embed="rId1"/>
          <a:stretch/>
        </p:blipFill>
        <p:spPr>
          <a:xfrm>
            <a:off x="628560" y="1112760"/>
            <a:ext cx="8118720" cy="4907160"/>
          </a:xfrm>
          <a:prstGeom prst="rect">
            <a:avLst/>
          </a:prstGeom>
          <a:ln w="0">
            <a:noFill/>
          </a:ln>
        </p:spPr>
      </p:pic>
      <p:sp>
        <p:nvSpPr>
          <p:cNvPr id="240" name="TextBox 7"/>
          <p:cNvSpPr/>
          <p:nvPr/>
        </p:nvSpPr>
        <p:spPr>
          <a:xfrm>
            <a:off x="1143000" y="6002280"/>
            <a:ext cx="6781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1d2e"/>
                </a:solidFill>
                <a:latin typeface="Arial"/>
              </a:rPr>
              <a:t>     </a:t>
            </a:r>
            <a:r>
              <a:rPr b="1" i="1" lang="en-US" sz="1800" spc="-1" strike="noStrike">
                <a:solidFill>
                  <a:srgbClr val="ffff00"/>
                </a:solidFill>
                <a:latin typeface="Arial"/>
              </a:rPr>
              <a:t>See compilation of research based interventions o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ff99"/>
                </a:solidFill>
                <a:uFillTx/>
                <a:latin typeface="Arial"/>
                <a:hlinkClick r:id="rId2"/>
              </a:rPr>
              <a:t>www.cerebrum.wikispaces.com</a:t>
            </a:r>
            <a:r>
              <a:rPr b="0" lang="en-US" sz="1800" spc="-1" strike="noStrike" u="sng">
                <a:solidFill>
                  <a:srgbClr val="ffff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1d2e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Tier II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: At-a-Glanc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1981080"/>
                <a:gridCol w="6248520"/>
              </a:tblGrid>
              <a:tr h="64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Focu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-10% of students who have not responded to tier I effort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rogram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upplemental instruction provided in addition to and not in place of core instruc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Grouping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all group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im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re Instruction + 20-30 minutes of supplemental interventions 3 – 5 days / week for a period of 9 – 30 week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ssessmen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gress monitoring no less than every two week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Interventionis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eneral Education or other qualified personnel determined by the school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etting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ithin or outside of the classro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Tier III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: At-a-Glanc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457200" y="1600200"/>
          <a:ext cx="8229600" cy="5065560"/>
        </p:xfrm>
        <a:graphic>
          <a:graphicData uri="http://schemas.openxmlformats.org/drawingml/2006/table">
            <a:tbl>
              <a:tblPr/>
              <a:tblGrid>
                <a:gridCol w="1981080"/>
                <a:gridCol w="6248520"/>
              </a:tblGrid>
              <a:tr h="64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Focu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-5% of students who have not responded to tier II effort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rogram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upplemental instruction that differs from tier II in terms of time, duration, group size, frequency of progress monitoring, and focu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Grouping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dividualized instruction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im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re Instruction + 30-60 minutes of supplemental interventions at least 4 days / week for a period of 9 – 30 week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ssessmen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gress monitoring at least 1x / wee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5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Interventionis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ghly skilled or trained interventionists in the area of academic need indicated by performance dat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etting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ithin or outside of the classro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2T15:22:28Z</dcterms:created>
  <dc:creator>User</dc:creator>
  <dc:description/>
  <dc:language>en-US</dc:language>
  <cp:lastModifiedBy>setup</cp:lastModifiedBy>
  <dcterms:modified xsi:type="dcterms:W3CDTF">2010-11-23T13:49:49Z</dcterms:modified>
  <cp:revision>21</cp:revision>
  <dc:subject/>
  <dc:title>Response to Intervention (RTI) &amp; The IST Process</dc:title>
</cp:coreProperties>
</file>